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631-B1B0-4C6D-B4D4-8D95E5B9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3F2-69F1-499C-A047-CED1FE8A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17F-D837-45A6-8223-B7053BC8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35D-5BDC-458F-815B-06A0A711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97C-649B-44E8-B3E6-F8B435AA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5CE-8ACB-4EC3-A56A-9A6C0AE9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11A-C8C7-4BE1-9E19-A47FD02E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F693-4DFF-4528-BA99-DFC4BC32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590-6CBB-4A46-B152-FF9DABFE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15B-0D9A-46DF-9476-D7B0C24F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539-9B22-4D00-821B-60DDB5F2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8AD-6119-48C3-B350-B30D0370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D7ED-FC4A-427D-9BFA-EA2C895A9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Dear Mrs. LaR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obe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iscon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elodra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neg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des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per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Angel Child, Dragon Chi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leam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umb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ende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il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y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ckbar"/>
              </a:rPr>
              <a:t>Three Little Wolves and the Big Bad Pi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row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tremb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xtrem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enero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ec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ersev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ckbar"/>
              </a:rPr>
              <a:t>Wolf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cent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a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merg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f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dustr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chi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Montezuma’s Reve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v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is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esmer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ax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gr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ustr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Grandpa’s Tee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pl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usp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ys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le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spi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The Patchwork Quil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asterpi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rea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nx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u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pa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nurtu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The Cow Who Wouldn’t Come 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tern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t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gn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nov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iv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Porkenste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sbel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cred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rea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lo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sol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The Princess and the Piz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rac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um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agr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mutt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r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rac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Just Plain Fa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ossi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hun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e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stant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exot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impl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A Bad Case of Strip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contag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dis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reme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va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perple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Koko’s Kit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ggres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s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ccustom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ff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ns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ap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ckbar"/>
              </a:rPr>
              <a:t>The Great Kapok Tr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nces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lith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i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lul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efense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t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Picnic of Mudsock Meadow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e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leg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or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rev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ischie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ckbar"/>
              </a:rPr>
              <a:t>Picnic of Mudsock Mead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e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leg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or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rev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ckbar"/>
              </a:rPr>
              <a:t>mischiev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Chato’s Kitch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Vibrat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assu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wer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uppres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umbfound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ismay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Everybody Cooks Ri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boarder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ulp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ppetizing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       di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Eat Your Vegetabl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relocat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eroc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queasy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lumb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ollaboration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teadf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The Rough Face Gir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charred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we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aughtily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rev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feverishly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sui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ckbar"/>
              </a:rPr>
              <a:t>The Three Ques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advanc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dre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jure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unce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sec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pri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1:14:31Z</dcterms:created>
  <dc:creator>Abby Owens</dc:creator>
  <dc:description/>
  <dc:language>en-US</dc:language>
  <cp:lastModifiedBy>Abby Owens</cp:lastModifiedBy>
  <dcterms:modified xsi:type="dcterms:W3CDTF">2010-05-28T01:52:23Z</dcterms:modified>
  <cp:revision>30</cp:revision>
  <dc:subject/>
  <dc:title>PowerPoint Presentation</dc:title>
</cp:coreProperties>
</file>